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gif" ContentType="image/gif"/>
  <Override PartName="/ppt/media/image11.gif" ContentType="image/gif"/>
  <Override PartName="/ppt/media/image7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DB5-80E2-453C-9CEA-E8BBD48A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4B40-D9EF-4B0B-BB2D-EBB3B002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A91-BA3C-4BF6-8359-89BBF538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0E99-7AF6-47F7-A16A-8C59EF72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C009-FA70-4356-9EF9-F43FC791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BFBC-5564-4772-A73D-F0968A57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4C8F-3E05-49F7-B1F1-4A39F432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06E0-7CE8-4390-9171-5DFFD114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2A95-51CF-4F44-B525-99945DC6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9CEA-65A2-4FD8-B111-B34F799E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1EB0-4641-47A6-B3AA-D8653B0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2AC-2A65-47C1-AD9A-23E2AC3E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2BB7-AD26-4EB7-AC7B-AB0F65D9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F997-9D43-45C1-BE93-2F6A49BC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95DF-F923-4F71-B19B-752E4879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6580-D80B-4395-8F6D-177885C5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DC53-A3A6-4BBA-AA15-3B813B3BB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C36-5A32-478B-8041-F8B03A0E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8C2-7712-43A8-8E43-118EC4C6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39F-81E9-4993-A895-91552B71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1A70-B04F-4D0F-9BEA-88F0ED23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728-3CC6-4A42-9B11-32AB1CFC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CB5A-A7D5-4C8D-94A9-1AEA4F04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CF5-193B-464E-BCD0-403571F0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gi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44DA-EBA9-40BE-A4B8-0C22C81688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52280" y="152280"/>
            <a:ext cx="1904760" cy="1219320"/>
            <a:chOff x="152280" y="152280"/>
            <a:chExt cx="1904760" cy="1219320"/>
          </a:xfrm>
        </p:grpSpPr>
        <p:sp>
          <p:nvSpPr>
            <p:cNvPr id="4" name=""/>
            <p:cNvSpPr/>
            <p:nvPr/>
          </p:nvSpPr>
          <p:spPr>
            <a:xfrm>
              <a:off x="442440" y="190800"/>
              <a:ext cx="1603440" cy="69300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32000" y="169920"/>
              <a:ext cx="595440" cy="12016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190800"/>
              <a:ext cx="1363680" cy="69948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69640" y="442800"/>
              <a:ext cx="1787400" cy="18900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87000" y="190800"/>
              <a:ext cx="1492920" cy="8470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08400" y="306360"/>
              <a:ext cx="829080" cy="615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8560" y="421560"/>
              <a:ext cx="552960" cy="4233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29440" y="498600"/>
              <a:ext cx="331560" cy="2307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63960" y="782640"/>
              <a:ext cx="465480" cy="37044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63960" y="758520"/>
              <a:ext cx="244080" cy="54864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492920" y="190800"/>
              <a:ext cx="552600" cy="6544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5960" y="344880"/>
              <a:ext cx="1105560" cy="6544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31920" y="152280"/>
              <a:ext cx="939600" cy="61596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95400" y="614160"/>
              <a:ext cx="995040" cy="11520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" descr="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" descr=""/>
            <p:cNvPicPr/>
            <p:nvPr/>
          </p:nvPicPr>
          <p:blipFill>
            <a:blip r:embed="rId4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sp>
        <p:nvSpPr>
          <p:cNvPr id="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76320" y="228600"/>
            <a:ext cx="2742840" cy="1980720"/>
            <a:chOff x="-76320" y="228600"/>
            <a:chExt cx="2742840" cy="1980720"/>
          </a:xfrm>
        </p:grpSpPr>
        <p:sp>
          <p:nvSpPr>
            <p:cNvPr id="62" name=""/>
            <p:cNvSpPr/>
            <p:nvPr/>
          </p:nvSpPr>
          <p:spPr>
            <a:xfrm>
              <a:off x="341280" y="291240"/>
              <a:ext cx="2308680" cy="1126080"/>
            </a:xfrm>
            <a:custGeom>
              <a:avLst/>
              <a:gdLst/>
              <a:ahLst/>
              <a:rect l="l" t="t" r="r" b="b"/>
              <a:pathLst>
                <a:path w="1392" h="864">
                  <a:moveTo>
                    <a:pt x="0" y="0"/>
                  </a:moveTo>
                  <a:lnTo>
                    <a:pt x="288" y="384"/>
                  </a:lnTo>
                  <a:lnTo>
                    <a:pt x="768" y="720"/>
                  </a:lnTo>
                  <a:lnTo>
                    <a:pt x="1008" y="864"/>
                  </a:lnTo>
                  <a:lnTo>
                    <a:pt x="1392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6520" y="257040"/>
              <a:ext cx="857520" cy="1952280"/>
            </a:xfrm>
            <a:custGeom>
              <a:avLst/>
              <a:gdLst/>
              <a:ahLst/>
              <a:rect l="l" t="t" r="r" b="b"/>
              <a:pathLst>
                <a:path w="517" h="1498">
                  <a:moveTo>
                    <a:pt x="482" y="0"/>
                  </a:moveTo>
                  <a:lnTo>
                    <a:pt x="429" y="358"/>
                  </a:lnTo>
                  <a:lnTo>
                    <a:pt x="488" y="546"/>
                  </a:lnTo>
                  <a:lnTo>
                    <a:pt x="517" y="893"/>
                  </a:lnTo>
                  <a:lnTo>
                    <a:pt x="488" y="1069"/>
                  </a:lnTo>
                  <a:lnTo>
                    <a:pt x="194" y="1369"/>
                  </a:lnTo>
                  <a:lnTo>
                    <a:pt x="0" y="149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76320" y="291240"/>
              <a:ext cx="1963800" cy="1136160"/>
            </a:xfrm>
            <a:custGeom>
              <a:avLst/>
              <a:gdLst/>
              <a:ahLst/>
              <a:rect l="l" t="t" r="r" b="b"/>
              <a:pathLst>
                <a:path w="1184" h="872">
                  <a:moveTo>
                    <a:pt x="1184" y="0"/>
                  </a:moveTo>
                  <a:lnTo>
                    <a:pt x="1034" y="159"/>
                  </a:lnTo>
                  <a:lnTo>
                    <a:pt x="932" y="328"/>
                  </a:lnTo>
                  <a:lnTo>
                    <a:pt x="731" y="532"/>
                  </a:lnTo>
                  <a:lnTo>
                    <a:pt x="567" y="723"/>
                  </a:lnTo>
                  <a:lnTo>
                    <a:pt x="402" y="858"/>
                  </a:lnTo>
                  <a:lnTo>
                    <a:pt x="0" y="87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2880" y="700560"/>
              <a:ext cx="2573640" cy="307080"/>
            </a:xfrm>
            <a:custGeom>
              <a:avLst/>
              <a:gdLst/>
              <a:ahLst/>
              <a:rect l="l" t="t" r="r" b="b"/>
              <a:pathLst>
                <a:path w="1552" h="236">
                  <a:moveTo>
                    <a:pt x="1552" y="0"/>
                  </a:moveTo>
                  <a:lnTo>
                    <a:pt x="1193" y="189"/>
                  </a:lnTo>
                  <a:lnTo>
                    <a:pt x="858" y="218"/>
                  </a:lnTo>
                  <a:lnTo>
                    <a:pt x="629" y="206"/>
                  </a:lnTo>
                  <a:lnTo>
                    <a:pt x="306" y="236"/>
                  </a:lnTo>
                  <a:lnTo>
                    <a:pt x="124" y="218"/>
                  </a:lnTo>
                  <a:lnTo>
                    <a:pt x="0" y="20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1720" y="291240"/>
              <a:ext cx="2149560" cy="1376280"/>
            </a:xfrm>
            <a:custGeom>
              <a:avLst/>
              <a:gdLst/>
              <a:ahLst/>
              <a:rect l="l" t="t" r="r" b="b"/>
              <a:pathLst>
                <a:path w="1296" h="1056">
                  <a:moveTo>
                    <a:pt x="1200" y="864"/>
                  </a:moveTo>
                  <a:lnTo>
                    <a:pt x="1248" y="768"/>
                  </a:lnTo>
                  <a:lnTo>
                    <a:pt x="1248" y="720"/>
                  </a:lnTo>
                  <a:lnTo>
                    <a:pt x="1296" y="432"/>
                  </a:lnTo>
                  <a:lnTo>
                    <a:pt x="864" y="144"/>
                  </a:lnTo>
                  <a:lnTo>
                    <a:pt x="480" y="0"/>
                  </a:lnTo>
                  <a:lnTo>
                    <a:pt x="144" y="96"/>
                  </a:lnTo>
                  <a:lnTo>
                    <a:pt x="96" y="384"/>
                  </a:lnTo>
                  <a:lnTo>
                    <a:pt x="0" y="528"/>
                  </a:lnTo>
                  <a:lnTo>
                    <a:pt x="48" y="720"/>
                  </a:lnTo>
                  <a:lnTo>
                    <a:pt x="144" y="864"/>
                  </a:lnTo>
                  <a:lnTo>
                    <a:pt x="288" y="1056"/>
                  </a:lnTo>
                  <a:lnTo>
                    <a:pt x="528" y="1056"/>
                  </a:lnTo>
                  <a:lnTo>
                    <a:pt x="768" y="1008"/>
                  </a:lnTo>
                  <a:lnTo>
                    <a:pt x="960" y="864"/>
                  </a:lnTo>
                  <a:lnTo>
                    <a:pt x="1104" y="672"/>
                  </a:lnTo>
                  <a:lnTo>
                    <a:pt x="1104" y="528"/>
                  </a:lnTo>
                  <a:lnTo>
                    <a:pt x="1008" y="384"/>
                  </a:lnTo>
                  <a:lnTo>
                    <a:pt x="816" y="144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80320" y="478800"/>
              <a:ext cx="1194120" cy="100080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39440" y="666360"/>
              <a:ext cx="795960" cy="68796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8920" y="791640"/>
              <a:ext cx="477360" cy="375120"/>
            </a:xfrm>
            <a:custGeom>
              <a:avLst/>
              <a:gdLst/>
              <a:ahLst/>
              <a:rect l="l" t="t" r="r" b="b"/>
              <a:pathLst>
                <a:path w="720" h="768">
                  <a:moveTo>
                    <a:pt x="624" y="96"/>
                  </a:moveTo>
                  <a:lnTo>
                    <a:pt x="432" y="96"/>
                  </a:lnTo>
                  <a:lnTo>
                    <a:pt x="288" y="0"/>
                  </a:lnTo>
                  <a:lnTo>
                    <a:pt x="192" y="96"/>
                  </a:lnTo>
                  <a:lnTo>
                    <a:pt x="48" y="96"/>
                  </a:lnTo>
                  <a:lnTo>
                    <a:pt x="48" y="240"/>
                  </a:lnTo>
                  <a:lnTo>
                    <a:pt x="0" y="384"/>
                  </a:lnTo>
                  <a:lnTo>
                    <a:pt x="0" y="480"/>
                  </a:lnTo>
                  <a:lnTo>
                    <a:pt x="48" y="624"/>
                  </a:lnTo>
                  <a:lnTo>
                    <a:pt x="192" y="768"/>
                  </a:lnTo>
                  <a:lnTo>
                    <a:pt x="336" y="720"/>
                  </a:lnTo>
                  <a:lnTo>
                    <a:pt x="576" y="720"/>
                  </a:lnTo>
                  <a:lnTo>
                    <a:pt x="624" y="576"/>
                  </a:lnTo>
                  <a:lnTo>
                    <a:pt x="720" y="384"/>
                  </a:lnTo>
                  <a:lnTo>
                    <a:pt x="672" y="240"/>
                  </a:lnTo>
                  <a:lnTo>
                    <a:pt x="624" y="192"/>
                  </a:lnTo>
                  <a:lnTo>
                    <a:pt x="624" y="96"/>
                  </a:lnTo>
                  <a:close/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252800"/>
              <a:ext cx="669960" cy="602280"/>
            </a:xfrm>
            <a:custGeom>
              <a:avLst/>
              <a:gdLst/>
              <a:ahLst/>
              <a:rect l="l" t="t" r="r" b="b"/>
              <a:pathLst>
                <a:path w="404" h="462">
                  <a:moveTo>
                    <a:pt x="0" y="0"/>
                  </a:moveTo>
                  <a:lnTo>
                    <a:pt x="116" y="318"/>
                  </a:lnTo>
                  <a:lnTo>
                    <a:pt x="212" y="414"/>
                  </a:lnTo>
                  <a:lnTo>
                    <a:pt x="404" y="462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600" y="1213920"/>
              <a:ext cx="351360" cy="891360"/>
            </a:xfrm>
            <a:custGeom>
              <a:avLst/>
              <a:gdLst/>
              <a:ahLst/>
              <a:rect l="l" t="t" r="r" b="b"/>
              <a:pathLst>
                <a:path w="212" h="684">
                  <a:moveTo>
                    <a:pt x="212" y="684"/>
                  </a:moveTo>
                  <a:lnTo>
                    <a:pt x="68" y="492"/>
                  </a:lnTo>
                  <a:lnTo>
                    <a:pt x="68" y="39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4360" y="291240"/>
              <a:ext cx="795600" cy="1063080"/>
            </a:xfrm>
            <a:custGeom>
              <a:avLst/>
              <a:gdLst/>
              <a:ahLst/>
              <a:rect l="l" t="t" r="r" b="b"/>
              <a:pathLst>
                <a:path w="480" h="816">
                  <a:moveTo>
                    <a:pt x="0" y="0"/>
                  </a:moveTo>
                  <a:lnTo>
                    <a:pt x="192" y="192"/>
                  </a:lnTo>
                  <a:lnTo>
                    <a:pt x="480" y="336"/>
                  </a:lnTo>
                  <a:lnTo>
                    <a:pt x="336" y="528"/>
                  </a:lnTo>
                  <a:lnTo>
                    <a:pt x="336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-56160" y="541440"/>
              <a:ext cx="1591920" cy="106308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lnTo>
                    <a:pt x="288" y="192"/>
                  </a:lnTo>
                  <a:lnTo>
                    <a:pt x="480" y="288"/>
                  </a:lnTo>
                  <a:lnTo>
                    <a:pt x="720" y="336"/>
                  </a:lnTo>
                  <a:lnTo>
                    <a:pt x="816" y="528"/>
                  </a:lnTo>
                  <a:lnTo>
                    <a:pt x="960" y="81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2160" y="228600"/>
              <a:ext cx="1353240" cy="1000800"/>
            </a:xfrm>
            <a:custGeom>
              <a:avLst/>
              <a:gdLst/>
              <a:ahLst/>
              <a:rect l="l" t="t" r="r" b="b"/>
              <a:pathLst>
                <a:path w="816" h="768">
                  <a:moveTo>
                    <a:pt x="816" y="0"/>
                  </a:moveTo>
                  <a:lnTo>
                    <a:pt x="624" y="480"/>
                  </a:lnTo>
                  <a:lnTo>
                    <a:pt x="576" y="576"/>
                  </a:ln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37600" y="979200"/>
              <a:ext cx="1432800" cy="187560"/>
            </a:xfrm>
            <a:custGeom>
              <a:avLst/>
              <a:gdLst/>
              <a:ahLst/>
              <a:rect l="l" t="t" r="r" b="b"/>
              <a:pathLst>
                <a:path w="864" h="144">
                  <a:moveTo>
                    <a:pt x="0" y="0"/>
                  </a:moveTo>
                  <a:lnTo>
                    <a:pt x="384" y="144"/>
                  </a:lnTo>
                  <a:lnTo>
                    <a:pt x="864" y="96"/>
                  </a:lnTo>
                </a:path>
              </a:pathLst>
            </a:custGeom>
            <a:noFill/>
            <a:ln w="15840">
              <a:solidFill>
                <a:srgbClr val="b6b6b6"/>
              </a:solidFill>
              <a:round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 flipH="1">
            <a:off x="6781320" y="4952880"/>
            <a:ext cx="2057400" cy="1676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-8280" y="0"/>
            <a:ext cx="9152280" cy="1752120"/>
            <a:chOff x="-8280" y="0"/>
            <a:chExt cx="9152280" cy="1752120"/>
          </a:xfrm>
        </p:grpSpPr>
        <p:pic>
          <p:nvPicPr>
            <p:cNvPr id="7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75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4"/>
            <a:stretch/>
          </p:blipFill>
          <p:spPr>
            <a:xfrm>
              <a:off x="8086680" y="0"/>
              <a:ext cx="1057320" cy="121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5"/>
            <a:stretch/>
          </p:blipFill>
          <p:spPr>
            <a:xfrm rot="930000">
              <a:off x="76320" y="136800"/>
              <a:ext cx="861840" cy="749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076400" cy="617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Ky3uk"/>
          <p:cNvPicPr/>
          <p:nvPr/>
        </p:nvPicPr>
        <p:blipFill>
          <a:blip r:embed="rId7"/>
          <a:stretch/>
        </p:blipFill>
        <p:spPr>
          <a:xfrm>
            <a:off x="1219320" y="380880"/>
            <a:ext cx="1019160" cy="1019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9CDC-E987-4B0E-89D9-385C40B651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8"/>
          <a:srcRect l="53155" t="15130" r="12934" b="45390"/>
          <a:stretch/>
        </p:blipFill>
        <p:spPr>
          <a:xfrm>
            <a:off x="380880" y="1295280"/>
            <a:ext cx="228600" cy="152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&#1050;&#1088;&#1080;&#1090;&#1077;&#1088;&#1080;&#1080;%20&#1074;&#1080;&#1076;&#1072;.ppt" TargetMode="External"/><Relationship Id="rId2" Type="http://schemas.openxmlformats.org/officeDocument/2006/relationships/hyperlink" Target="file:///&#1069;&#1082;&#1086;&#1083;&#1086;&#1075;&#1080;&#1095;&#1077;&#1089;&#1082;&#1080;&#1077;%20&#1092;&#1072;&#1082;&#1090;&#1086;&#1088;&#1099;.pptx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58;&#1088;&#1086;&#1092;&#1080;&#1095;&#1077;&#1089;&#1082;&#1072;&#1103;%20&#1089;&#1090;&#1088;&#1091;&#1082;&#1090;&#1091;&#1088;&#1072;%20&#1089;&#1086;&#1086;&#1073;&#1097;&#1077;&#1089;&#1090;&#1074;&#1072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000" y="1125000"/>
            <a:ext cx="8209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етодическая разработка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раздела программы по биолог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рганизации живог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066920" y="4076280"/>
            <a:ext cx="4824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учитель биологии высшей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БОУ ООШ №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убанихина Мария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6453360"/>
            <a:ext cx="403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. Нижний Новгород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обенности личности подро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нтральное новообразование подростничества – "чувство взрослости" – отношение подростка к себе как к взрослом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витие самосознания (формирование "Я-концепции" система внутренне согласованных представлений о себе, образов "Я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ичность мышления, склонность к рефлексии, формирование самоанали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рудности роста, половое созревание, сексуальные переживания, интерес к противоположному п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возбудимость, неуравновешенность, частая смена настро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метное развитие волевых кач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ребность в самоутверждении, в деятельности, имеющий личност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280" y="2852280"/>
            <a:ext cx="7921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нать/поним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пределения понятий «вид», «критерии вида», «популяция», «экология», «экологический фактор», «сообщество», «экосистема», «биогеоценоз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уктуру разных сооб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оцессы, происходящие при переходе с одного трофического уровня на друг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сновные свойства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чины смены биоценозов, формирования новых сооб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893080" cy="42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Уме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ировать видовой состав биоценозов; компоненты биоге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делять отдельные формы взаимоотношений в биоценоз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являть пищевые сети в конкретных условиях обит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страивать цепи и сети питания для разных биоценоз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роли продуцентов, консументов и редуцен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ъяснять причины устойчивости и смены экосист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равнивать искусственный и естественный биоценоз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характеризовать среды обитания организмов, экологические факторы (абиотические, биотические, антропогенны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ывать роль биологического разнообразия, регулирования численности видов, охраны природных сообществ в сохранении равновесия в биосфе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ЖИДАЕМЫЕ РЕЗУЛЬТАТ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воения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3141720"/>
            <a:ext cx="84978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облюдения правил поведения в природн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основания актуальности проблемы сохранения биологическ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нообразия видов и сообщест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15920"/>
            <a:ext cx="5832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радиционная техн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чностно-ориентированно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хнология поддержки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гров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вивающее 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4692600"/>
            <a:ext cx="214308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есные: сообщения, рассказ, беседа, работа с учебником, работа с ученической тетрадью, работа с дидактическими карточками, работа с до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глядные: демонстрация таблиц и картин, педагогический рисунок, биологический 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659640" y="4797360"/>
            <a:ext cx="1954080" cy="1568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ИДЫ УЧЕБНОЙ ДЕЯТЕЛЬНОСТ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548316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упп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ллектив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ивидуально-обособл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148360" y="4432320"/>
            <a:ext cx="3592440" cy="2114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ОРМЫ ОРГАНИЗАЦИИ ТЕКУЩЕЙ УЧЕБ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изучения нового учебного матер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формирования и совершенствования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обобщения и систематизации зна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и контроля и коррекции знаний, умений и навы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мбинированный уро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1484280"/>
            <a:ext cx="8229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ок – основная единица образовательного процесса, четко ограниченная временными рамками (чаще всего 45 мин), планом работы и составом учас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341360"/>
            <a:ext cx="67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пуляционно-видовой уровень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 ча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3068640"/>
            <a:ext cx="8424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Вид, его критерии. Структура вида. Популяция – форма существования вида. Лаб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. Изучение морфологического критерия ви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4.1, 4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3. Экология как наука (записи в тетрад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Урок 44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Экологические факторы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9.1, 9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ЕМАТИЧЕСКОЕ ПЛАН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981000"/>
            <a:ext cx="6769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косистемный уровень (8 час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989000"/>
            <a:ext cx="8424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5. Сообщество, экосистема, биогеоценоз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6. Видовое разнообразие сообщества. Морфологическая и пространственн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Урок 47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рофическая структура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8. Потоки вещества и энергии в экосистеме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49. Продуктивность сообщества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 50. Экологическая сукцессия. Значение экологической сукцессии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5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01800" indent="-90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роки 51-52. Экскурсия в биогеоценоз (запис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340000" y="4941720"/>
            <a:ext cx="6624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ГРАММЫ для общеобразовательных учреждений к комплекту учебников, созданных под руководством В.В.Пасечника/ авт.-сост. Г.М.Пальдяева. – М.: Дрофа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419_small_1344925922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705040" cy="4319640"/>
          </a:xfrm>
          <a:prstGeom prst="rect">
            <a:avLst/>
          </a:prstGeom>
          <a:ln w="6480">
            <a:solidFill>
              <a:srgbClr val="99cc00"/>
            </a:solidFill>
            <a:miter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107120" y="4437000"/>
            <a:ext cx="1798920" cy="2171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50920" y="220500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а: Биология. 5-11 классы: программы для общеобразовательных учреждений к комплекту учебников, созданных под руководством В.В. Пасечника/ авт.-сост. Г.М. Пальдяева. – М.: Дрофа,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менский А.А., Криксунов Е.А., Пасечник В.В. Биология. Введение в общую биологию и экологию. 9 класс. – М.: Дрофа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Й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969240" y="4437000"/>
            <a:ext cx="1895400" cy="2121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20600" y="1301760"/>
            <a:ext cx="902340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stiva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u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фестиваль педагогических идей «Открытый урок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ww.bioword.narod.ru (биологический словарь он-лай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uchportal.ru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учительский по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.wikipedia.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Википедия – свободная энциклопе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charko.narod.ru/tekst/an4/1.htm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овременные образовательные техн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tana.ucoz.ru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otoskay.ucoz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ulitina.3dn.ru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ww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biovaneeva.ucoz.org/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сайт учителя биолог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187280" y="1844640"/>
            <a:ext cx="705672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СПАСИБ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33"/>
                </a:solidFill>
                <a:latin typeface="Comic Sans MS"/>
              </a:rPr>
              <a:t>ЗА ВНИМ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33"/>
              </a:solidFill>
              <a:latin typeface="Comic Sans MS"/>
              <a:ea typeface="Comic Sans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835280" y="5157360"/>
            <a:ext cx="698472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: Каменский А.А., Криксунов Е.А., Пасечник В.В. Биология. Введение в общую биологию и экологию. 9 кл. – М.: Дрофа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954520" cy="4392720"/>
          </a:xfrm>
          <a:prstGeom prst="rect">
            <a:avLst/>
          </a:prstGeom>
          <a:ln w="6480">
            <a:solidFill>
              <a:srgbClr val="33cccc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ния по экологии в курсе биологии 9 класса включают в себе широкий круг понятий, которые можно сгруппировать 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сколько блоков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2707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 – понятия о среде и экологических факторах (например, урок «Экология как наук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I – популяционно-экологические понятия (например, урок «Популяция – форма существования вида»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биогеоценозные понятия (например, урок «Видовое разнообразие сообщества»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V – социально-экологические понятия (например, урок «Экологические кризисы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96472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ЕЛЬ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чащиеся формируют представление об популяционно-видовом и экосистемном уровнях организации живого; продолжают формирование умения логически мыслить, выстраивать причинно-следственные связи, анализировать синтезировать сравнивать и обобщать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715160" y="53006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накомятся с сущностью понятий «вид», «популяция», «биоценоз», «биогеоценоз», «экосистема» и «биосфер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закрепляют понятия «экология», «экологические факторы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формируют знания об основных закономерностях живых систем, о взаимосвязях организмов и надорганизменных систем с окружающей средой, о круговороте веществ и потоке энергии в биогеоценозе как необходимом условии его существо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ащиеся уточняют и закрепляют знания пищевых связей, которые отображают реальный путь круговорота веще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бучающиеся развивают умения синтеза и анализа информации, посредством выделения главных моментов популяционно-видового и экосистемного уровнях организации живог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еники продолжают развивать логическое мышление и умение устанавливать причинно-следственные связи при выяснении условий устойчивости сообществ, влияния экологических условий на организ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чатся выявлять закономерности изменчивости биогеоценозов, основных факторов, которые эти изменения выз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8920" y="2781360"/>
            <a:ext cx="87138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формируют не только знания, но и убеждения в необходимости сохранения ценности и устойчивости экосис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чащиеся убеждаются в том, что знания об изменениях в природных биогеоценозах необходимы для их ох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ЗАДАЧИ раздела программы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опуляционно-видовой и экосистемный уровни организации живог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8a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сихолого-педагогические особенности подросткового возра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2349360"/>
            <a:ext cx="8229600" cy="34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ростковый возрас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стадия онтогенетического развития между детством и взрослостью (от 11–12 до 16–17 лет), которая характеризуется качественными изменениями, связанными с половым созреванием и вхождением во взрослую жизнь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сихологический словар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7T05:10:38Z</dcterms:created>
  <dc:creator>Admin</dc:creator>
  <dc:description/>
  <dc:language>en-US</dc:language>
  <cp:lastModifiedBy>Admin</cp:lastModifiedBy>
  <dcterms:modified xsi:type="dcterms:W3CDTF">2013-04-14T06:02:51Z</dcterms:modified>
  <cp:revision>67</cp:revision>
  <dc:subject>биология</dc:subject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